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B7F7-7D03-4B76-9E5A-019A17D5B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B0D8-09EA-4127-95CE-9CE0CED3D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0F77-7D4B-4CE1-B642-D1CD04106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E15D-C543-414F-802A-D81300677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3F91-2962-48AC-838B-05F51AB67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76F6-3BEE-409A-974B-D98E9AD9F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0ACD-4394-43C6-85F1-4256B1522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3FE3-EBE7-484B-8D6F-0535D7ED5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05D2-C885-440C-9CF7-334522F5A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A06B-09DE-41FE-BE53-55DBF17EB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2142-911E-49DD-A554-E53A0B02D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0D15-54EF-4EE8-B79B-61F09E19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1F04A-760F-4D67-8AAB-9B7F5587B4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ample PowerPoin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This is the 1</a:t>
            </a:r>
            <a:r>
              <a:rPr b="0" lang="en-GB" sz="3200" spc="-1" strike="noStrike" baseline="30000">
                <a:solidFill>
                  <a:srgbClr val="898989"/>
                </a:solidFill>
                <a:latin typeface="Calibri"/>
              </a:rPr>
              <a:t>st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Not much too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44:44Z</dcterms:created>
  <dc:creator>Nick Burch</dc:creator>
  <dc:description/>
  <dc:language>en-US</dc:language>
  <cp:lastModifiedBy>Nick Burch</cp:lastModifiedBy>
  <dcterms:modified xsi:type="dcterms:W3CDTF">2008-04-11T12:45:36Z</dcterms:modified>
  <cp:revision>1</cp:revision>
  <dc:subject>Testing file 1</dc:subject>
  <dc:title>Sample PPT file</dc:title>
</cp:coreProperties>
</file>