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E18D-5DCF-4F1C-AB59-E7A483F25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842A-B8AC-49C7-B763-D63A9B5B7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72E3-791E-497A-B628-309EACFEA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E257-7068-4515-8161-40A28A34A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2948-A641-4D78-9291-5372FF12B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6EA0-F2F6-406C-AEB6-11DEAD8B8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F9BB-A69E-4BC7-91DF-1C6DB83C3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5789-3D5F-45B4-8F49-F5FF029CF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AE90-79D4-462E-B47F-9DD616BC8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A61C-305B-4835-BDFA-F7A001B8E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A955-B018-4DB1-922F-33A239763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6EDE-5F41-45B1-8B46-F712A7FF5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5F7E9-CAD1-4C1D-852F-E12DB2F7D1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ample PowerPoin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This is the 2</a:t>
            </a:r>
            <a:r>
              <a:rPr b="0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 f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Not much too it eit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44:44Z</dcterms:created>
  <dc:creator>Nick Burch</dc:creator>
  <dc:description/>
  <dc:language>en-US</dc:language>
  <cp:lastModifiedBy>Nick Burch</cp:lastModifiedBy>
  <dcterms:modified xsi:type="dcterms:W3CDTF">2008-04-11T12:46:30Z</dcterms:modified>
  <cp:revision>2</cp:revision>
  <dc:subject>Testing file 2</dc:subject>
  <dc:title>Another sample PPT file</dc:title>
</cp:coreProperties>
</file>