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558C-0944-44F8-805C-FF313EC3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DCF0-FED9-467B-9E00-36E6A45D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5B98-F799-4A7F-8D87-A9114D6A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12F7-70A3-4567-8380-D765AA064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E72E-80F5-4860-B7B5-DC24BB9F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C143-558B-4C38-B9A7-101BB493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D134-78F4-44F3-9C63-91807238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404A-E524-42AC-8C37-7C476D8F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C738-8557-405C-BA02-C73C0FD1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3B2A-E189-4B77-8CFA-70851188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C06B-F969-43CE-B313-3D2FBA06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F09C-D146-4600-9783-5B718881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058A-188E-4439-B3E9-E2CCDE5102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ample PowerPoin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is is the 1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st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ot much too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44:44Z</dcterms:created>
  <dc:creator>Nick Burch</dc:creator>
  <dc:description/>
  <dc:language>en-US</dc:language>
  <cp:lastModifiedBy>Nick Burch</cp:lastModifiedBy>
  <dcterms:modified xsi:type="dcterms:W3CDTF">2008-04-11T12:45:36Z</dcterms:modified>
  <cp:revision>1</cp:revision>
  <dc:subject>Testing file 1</dc:subject>
  <dc:title>Sample PPT file</dc:title>
</cp:coreProperties>
</file>