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018C2-6050-4C42-B278-B8F33830E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100A3-97CD-49F9-84B4-FE1905D4B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B4F6D-AD30-4407-8863-02D00EA33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79296-28C7-4317-8BD4-05651865C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9BCF4-D106-4E36-9EBA-6CEE6A613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7AB57-6EC5-4E2E-B447-398672B32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A3160-3F4E-4F71-8E67-846CAEC8C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B41FC-3B78-4F17-A235-7DA795053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3097B-0D42-4549-9DAC-3A33CFA25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39F07-17F4-4F3C-B258-0EE56BE4C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E02B4-5515-422F-B37F-C057236BC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050D2-56DF-4DA5-A650-49A2F18A0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0E07C-7C01-428E-8F99-9BFFE19B10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ample PowerPoin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This is the 2</a:t>
            </a:r>
            <a:r>
              <a:rPr b="0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 fi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Not much too it eith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44:44Z</dcterms:created>
  <dc:creator>Nick Burch</dc:creator>
  <dc:description/>
  <dc:language>en-US</dc:language>
  <cp:lastModifiedBy>Nick Burch</cp:lastModifiedBy>
  <dcterms:modified xsi:type="dcterms:W3CDTF">2008-04-11T12:46:30Z</dcterms:modified>
  <cp:revision>2</cp:revision>
  <dc:subject>Testing file 2</dc:subject>
  <dc:title>Another sample PPT file</dc:title>
</cp:coreProperties>
</file>