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B6E1-CBB3-4783-A2F5-0B1C26C2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B17-797A-43C2-8DB7-AF9410A4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D52-4ABF-4A5A-AC19-E1D5DBE7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09E-09C2-48FA-B404-5E4A677A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1D3-9D42-44F1-8BD9-43C3EC0D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0E7-0636-4DD6-B7B2-BF5682FD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E8BA-B115-4844-9FB3-B045B952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0F3-5417-48FC-A696-43B0F0B0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E4F-CA42-4A5B-BB19-F6F3180B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199-1361-4B5C-AD41-A3EFC0D0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CAE-0CDD-4DDA-9D01-838FD015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9BA-5E68-4791-AFA1-A2D9468A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C147-47C3-493E-85DC-CB2F42886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2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6:30Z</dcterms:modified>
  <cp:revision>2</cp:revision>
  <dc:subject>Testing file 2</dc:subject>
  <dc:title>Another sample PPT file</dc:title>
</cp:coreProperties>
</file>