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82CAC-1CB1-4FB1-8A3C-04FFDA758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5FA06-A385-4521-864F-D68D2131C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0385A-7F0B-4A44-BACB-B5B7FE9E0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D0B53-3F63-493B-B4D0-86D31A8F2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109E7-9E3B-4483-929A-6F09F9A8D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86352-B71F-41F4-9FDF-ADEE38FD4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25131-4B4F-4E64-8BD9-E0C533BAE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1E03A-F495-4096-B0A7-7121D2C0C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2A652-3D26-43E0-841D-305B79FF6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6F178-8A39-4ABF-BA63-E51CBEE1A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11373-F3BD-4978-AAE5-0544D5512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B2EBA-54FF-42B9-AF86-703912CC5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9C4F0-C9F9-4B0F-AB6A-FA33275AAB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ample PowerPoin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This is the 1</a:t>
            </a:r>
            <a:r>
              <a:rPr b="0" lang="en-GB" sz="3200" spc="-1" strike="noStrike" baseline="30000">
                <a:solidFill>
                  <a:srgbClr val="898989"/>
                </a:solidFill>
                <a:latin typeface="Calibri"/>
              </a:rPr>
              <a:t>st</a:t>
            </a: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 fi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Not much too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44:44Z</dcterms:created>
  <dc:creator>Nick Burch</dc:creator>
  <dc:description/>
  <dc:language>en-US</dc:language>
  <cp:lastModifiedBy>Nick Burch</cp:lastModifiedBy>
  <dcterms:modified xsi:type="dcterms:W3CDTF">2008-04-11T12:45:36Z</dcterms:modified>
  <cp:revision>1</cp:revision>
  <dc:subject>Testing file 1</dc:subject>
  <dc:title>Sample PPT file</dc:title>
</cp:coreProperties>
</file>