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7F2-F86F-46C9-AD5C-456276F8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5B2-B222-434D-837F-539B6179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D7D8-C1DE-451E-9028-2233583E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FD2-6C7D-4A79-A11D-D4C99853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2B15-13B9-4873-AFDF-D8F16723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8623-CCB8-46A3-A88A-4CAD4DCD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14C3-3C15-4B93-96E9-4465DD5D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2E09-A6AE-4FDC-9CB3-2389105E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C4C-5678-4F54-A144-00432D35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8858-786E-4213-82C9-C5175FC4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FC7-0CC7-4B44-B817-3B01B6A2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741B-3337-4639-912E-B267D984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C337-D593-4838-A96F-7456A6C23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1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5:36Z</dcterms:modified>
  <cp:revision>1</cp:revision>
  <dc:subject>Testing file 1</dc:subject>
  <dc:title>Sample PPT file</dc:title>
</cp:coreProperties>
</file>