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BFF4-F1CE-4AF8-967D-CFCCF9AA6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085A-C4A1-4E40-A9C8-5860E2301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7324-607C-44AD-979A-C826EC8B2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7062-9D74-4A8C-BA84-7BACD075B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8940-0160-4FA3-8979-2D22038FD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AEEA-F775-4CE5-9099-61E892203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75FB-9B21-4C03-84CD-94EE2AA8B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8A8F-2F47-4584-A46D-2D05789CE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AAE2-2572-4B91-8D0D-766410640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E760-08AC-4FF6-B551-AB956779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3F73-9988-49D4-8C5C-757D64D8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74F2-1A8B-47E1-B12C-09CC1800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717E5-2E4A-46E7-A680-183541FB64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ample PowerPoin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This is the 2</a:t>
            </a:r>
            <a:r>
              <a:rPr b="0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Not much too it ei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44:44Z</dcterms:created>
  <dc:creator>Nick Burch</dc:creator>
  <dc:description/>
  <dc:language>en-US</dc:language>
  <cp:lastModifiedBy>Nick Burch</cp:lastModifiedBy>
  <dcterms:modified xsi:type="dcterms:W3CDTF">2008-04-11T12:46:30Z</dcterms:modified>
  <cp:revision>2</cp:revision>
  <dc:subject>Testing file 2</dc:subject>
  <dc:title>Another sample PPT file</dc:title>
</cp:coreProperties>
</file>