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10F4-B998-4A67-9DF2-05C98EF71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D49D-D5D9-4966-A8CB-3B9A934E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2114-8D1D-4ECF-AA01-6714A9556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7538-84F3-426D-8B69-612D1CB3F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0BC9-341F-44F7-AC91-E21A972C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E026-B35F-412B-8095-FBFC82CC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E681-CCDD-4071-88FC-42A18CFC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A9C3-4AAC-4685-B38D-AF88B0F2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4006-8F93-4F5D-8A9E-3CF800EA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905D-124D-4C07-8BBC-A3DDEF2B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179B-3CC0-48D3-8DCC-04B3CC60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2E68-BBDD-43DF-8A19-02202F55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4920-8033-4ED1-A7B3-E0870A3F57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ample PowerPoin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This is the 2</a:t>
            </a:r>
            <a:r>
              <a:rPr b="0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ot much too it ei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44:44Z</dcterms:created>
  <dc:creator>Nick Burch</dc:creator>
  <dc:description/>
  <dc:language>en-US</dc:language>
  <cp:lastModifiedBy>Nick Burch</cp:lastModifiedBy>
  <dcterms:modified xsi:type="dcterms:W3CDTF">2008-04-11T12:46:30Z</dcterms:modified>
  <cp:revision>2</cp:revision>
  <dc:subject>Testing file 2</dc:subject>
  <dc:title>Another sample PPT file</dc:title>
</cp:coreProperties>
</file>